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3255-13BD-4375-AEF5-4A34BA03C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CC59-E9A8-41DF-ABCD-AB461F895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A652-8019-4F2E-B443-A0998877E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D483-B5E2-46DF-95F9-4CB3DD08A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0FF-AAEE-4B93-9A7A-614E4B1FD2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70B-FD60-4C98-9522-EDBCD6D73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A4A-E39E-4265-B0D6-17A7D0C483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9FE-E612-4677-9140-8D3E89C24F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48B-889B-4250-98E8-779B48A89F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BAA-FF72-40B0-8EB3-F8EEAAB998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90D-D171-491E-8BA5-A71129BCA0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2E53-2884-4E37-BBD1-A45A17ABA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8C1-C2DF-47CC-BAF2-2D1404ED91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1A1-161D-4F6A-811D-4DC4EA371F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AA0-358C-4D61-A974-0EBF7C5605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102-7DE7-43E2-8B8B-F62B2FFBE6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1B6-EC3E-4076-834E-36EC01F13A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26B4-FEC6-421B-AE97-4F0B073BE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5936-E34E-4005-A369-0BA7A59B8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B72E-4E47-4CB4-A762-F33E3D983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2E03-70B5-455C-8EFD-D15544DE2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FB89-62E9-46B2-85E5-975752FE8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308A-54E3-4FD4-BD01-1D8EAAD4D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2311-F628-4863-BF2D-2B6A049E4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79280" y="1988640"/>
            <a:ext cx="784836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1" marL="533520" indent="-16848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8985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1338120" indent="-260280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5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6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079640" y="6297480"/>
            <a:ext cx="720072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604360" y="6297480"/>
            <a:ext cx="28872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CB75-C8B3-4205-87A8-0F21A9339CB5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5ba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079280" y="1196640"/>
            <a:ext cx="78483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44000" y="6297480"/>
            <a:ext cx="43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Arial"/>
              </a:rPr>
              <a:t>Seite</a:t>
            </a:r>
            <a:endParaRPr b="0" lang="en-US" sz="1100" spc="-1" strike="noStrike">
              <a:solidFill>
                <a:srgbClr val="4a4a4a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64640" y="358920"/>
            <a:ext cx="928440" cy="217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079640" y="358920"/>
            <a:ext cx="194472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7701120" y="6297480"/>
            <a:ext cx="1064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Seite </a:t>
            </a:r>
            <a:fld id="{39F8CE84-D175-4402-A93B-5883A952C482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be3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620640"/>
            <a:ext cx="153684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nformationssystem Medienpädagogik"/>
          <p:cNvPicPr/>
          <p:nvPr/>
        </p:nvPicPr>
        <p:blipFill>
          <a:blip r:embed="rId3"/>
          <a:srcRect l="0" t="0" r="32248" b="-567"/>
          <a:stretch/>
        </p:blipFill>
        <p:spPr>
          <a:xfrm>
            <a:off x="468360" y="549360"/>
            <a:ext cx="4390920" cy="50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 lvl="1" marL="263520" indent="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622440" indent="171360" algn="ctr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973080" indent="181080" algn="ctr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1828800" indent="11160" algn="ctr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5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6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ism-info.de/start.html" TargetMode="External"/><Relationship Id="rId3" Type="http://schemas.openxmlformats.org/officeDocument/2006/relationships/hyperlink" Target="http://www.ism-info.de/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20500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herche im Informationssystem Medienpädag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5640" y="3860640"/>
            <a:ext cx="637236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Ein einführendes Tutorial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0036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133720"/>
            <a:ext cx="270216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Titel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Titeln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Jahreszahl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SB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SBN – Nummer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endung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Rundfunk- und Fernsehsendung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708000" y="2637000"/>
            <a:ext cx="2592360" cy="504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laufenden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Projekt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68360" y="3933720"/>
            <a:ext cx="100836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076640"/>
            <a:ext cx="30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Erlaubt die Such auf laufende oder abgeschlossene Projekte zu beschränk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276360" y="4292280"/>
            <a:ext cx="115092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3068640"/>
            <a:ext cx="723600" cy="28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587640" y="3357720"/>
            <a:ext cx="505080" cy="792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414972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eine Übersicht aller in der Datenbank vorhandenen Schlagwort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2728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2349360"/>
            <a:ext cx="270216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rojekttitel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rojekttitel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Laufend im 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en in denen ein Projekt lief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beteiligten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l Spaß bei der Recher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7596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a4a4a"/>
                </a:solidFill>
                <a:latin typeface="Arial"/>
              </a:rPr>
              <a:t>Für Fragen wenden Sie sich bitte an ism@dipf.d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6832440" cy="42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39640" y="1341360"/>
            <a:ext cx="8077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ssystem Medienpädagogik</a:t>
            </a:r>
            <a:endParaRPr b="0" lang="en-US" sz="3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0" name="">
            <a:hlinkClick r:id="rId2"/>
          </p:cNvPr>
          <p:cNvSpPr/>
          <p:nvPr/>
        </p:nvSpPr>
        <p:spPr>
          <a:xfrm>
            <a:off x="5867280" y="5953320"/>
            <a:ext cx="2913120" cy="296280"/>
          </a:xfrm>
          <a:prstGeom prst="rect">
            <a:avLst/>
          </a:prstGeom>
          <a:solidFill>
            <a:srgbClr val="008000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3"/>
              </a:rPr>
              <a:t>www.ism-info.de</a:t>
            </a:r>
            <a:endParaRPr b="0" lang="en-US" sz="1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2492280"/>
            <a:ext cx="807696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nachweise zu medienpädagogischen Themenfelder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asuch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ang zu den Datenbanken des ISM und seiner Partn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en über Veranstaltung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entipps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uelles von den beteiligten Instituti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685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Informationssystem Medienpädagogik bietet Ihnen</a:t>
            </a:r>
            <a:endParaRPr b="0" lang="en-US" sz="28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übergreifende, parallele Recherche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en können individuell ausgewählt und kombiniert werd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93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95640" y="2708280"/>
            <a:ext cx="1079280" cy="100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71628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lder zur Auswahl relevanter Bereich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132000" y="3573000"/>
            <a:ext cx="2735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2565360"/>
            <a:ext cx="2592360" cy="1224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227664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elder für die Eingabe von Suchbegriff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96000" y="2781360"/>
            <a:ext cx="936720" cy="216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645000"/>
            <a:ext cx="1079640" cy="8665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4292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Auswahlfelder für die Datenbanken, die in die Suche einbezogen werd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492000" y="4149720"/>
            <a:ext cx="1800360" cy="503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016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8360" y="2708280"/>
            <a:ext cx="648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060640"/>
            <a:ext cx="309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esen Feldern kann die Auswahl getroffen werden in welchen Bereichen der Datenbanken gesucht werden sol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50028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ei Titel / Name wird nach dem Titel eines Werks oder dem Namen eines Autor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924280"/>
            <a:ext cx="435240" cy="217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27640" y="414972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i Freitext wird nach dem eingegebenen Wort in allen Felder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141720"/>
            <a:ext cx="721080" cy="21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79736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Bei Schlagwörter / Ort wird nach Schlagwörtern und/oder Ort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16000" y="2924280"/>
            <a:ext cx="1584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771280" y="3068280"/>
            <a:ext cx="1729080" cy="115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843280" y="3357720"/>
            <a:ext cx="1657440" cy="1584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2349360"/>
            <a:ext cx="1368360" cy="136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76720" y="2349360"/>
            <a:ext cx="259056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beteiligten Pers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Medi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rche nach englisch oder deutsch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online verfügbar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agwort und Personen Regist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3640" y="3933720"/>
            <a:ext cx="3816360" cy="93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6920" y="393372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In diesen Feldern können Sie Ihre Suchanfrage genauer spezifizier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579640" y="4508640"/>
            <a:ext cx="576360" cy="72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2000" y="2997360"/>
            <a:ext cx="720720" cy="647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005360"/>
            <a:ext cx="331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jeweils eine Übersicht aller in der Datenbank vorhandenen Schlagworte oder Person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659280" y="3573000"/>
            <a:ext cx="36036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23:44Z</dcterms:created>
  <dc:creator>Gerda Balazs</dc:creator>
  <dc:description/>
  <dc:language>en-US</dc:language>
  <cp:lastModifiedBy>Siebold, Andres</cp:lastModifiedBy>
  <dcterms:modified xsi:type="dcterms:W3CDTF">2009-01-19T15:52:55Z</dcterms:modified>
  <cp:revision>5</cp:revision>
  <dc:subject/>
  <dc:title>Folie 1</dc:title>
</cp:coreProperties>
</file>